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8305920" y="601668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7620120" y="601668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68580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pter 30 – Searching for Or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ectio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1676520"/>
            <a:ext cx="33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Nixon’s Presidency and Water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American in the 197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Reagan Presi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209680"/>
            <a:ext cx="152280" cy="14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90720" y="2438280"/>
            <a:ext cx="152280" cy="14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1295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167652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Impact of Checks and Bal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407988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Energy Cr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Water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Hostages Rel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Reagan and Gorbach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African Americans with a College Degree, 1960-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2767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Quick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657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Chapter 30 Visual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2362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7432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The Election of 19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Verdana"/>
              </a:rPr>
              <a:t>Central American Conflicts in the 198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09480" y="1295280"/>
            <a:ext cx="609840" cy="53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105520" y="2362320"/>
            <a:ext cx="460080" cy="46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105520" y="3753000"/>
            <a:ext cx="509400" cy="59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029200" y="1295280"/>
            <a:ext cx="671400" cy="61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457200" y="3262320"/>
            <a:ext cx="595440" cy="58248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endshow"/>
          </p:cNvPr>
          <p:cNvSpPr/>
          <p:nvPr/>
        </p:nvSpPr>
        <p:spPr>
          <a:xfrm>
            <a:off x="7620120" y="601668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merica in the 1970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07696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Big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mericans faced major challenges both at home and around the world in the 197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in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merican society debated key social issues during the 197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immy Carter was elected president in 19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arter had successes as well as failures in foreign policy during his administ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1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American society debated key social issues during the 1970s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American population was changing in the 197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ost immigrants came from Latin America and As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irth rate decl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y 1970, Americans 65 and older became one of the fastest growing population grou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merica faced new challenges in finding ways to balance the views of all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Equal Rights Amendment caused national debate, but fail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1972 law known as Title IX banned discrimination on basis of sex in federally funded educational program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1973 the Supreme Court legalized abortion in </a:t>
            </a:r>
            <a:r>
              <a:rPr b="0" i="1" lang="en-US" sz="1800" spc="-1" strike="noStrike">
                <a:solidFill>
                  <a:srgbClr val="003300"/>
                </a:solidFill>
                <a:latin typeface="Verdana"/>
              </a:rPr>
              <a:t>Roe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v. </a:t>
            </a:r>
            <a:r>
              <a:rPr b="0" i="1" lang="en-US" sz="1800" spc="-1" strike="noStrike">
                <a:solidFill>
                  <a:srgbClr val="003300"/>
                </a:solidFill>
                <a:latin typeface="Verdana"/>
              </a:rPr>
              <a:t>Wade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Affirmative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Americans debated </a:t>
            </a: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affirmative action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, the practice of giving special consideration to nonwhites or women to make up for past discrim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Supporters argued it was needed to improve educational and job opportunities for minorities and wo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Opponents insisted that any race- or gender-based preferences were unfai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80769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ssues of the 1970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371600"/>
            <a:ext cx="35830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Biologist </a:t>
            </a: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Rachel Carson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 brought attention to environmental issues such as pollution in the 1970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April 22, 1970, was the first celebration of Earth D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Congress passed new laws to limit the release of pollut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Environmental Protection Agency (EPA) was established in 1970 to enforce environmental legis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ebates on balancing business and environmental concer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1880" y="38862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2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Jimmy Carter was elected president in 1976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343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mocratic nominee Jimmy Carter defeated Republican nominee Gerald Ford in a close 1976 el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arter faced many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Economy sluggish, high unemployment and inf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igh oil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Had a difficult time convincing Congress to support his propos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arter hoped to use nuclear energy to help solve energy cri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ccident at Three Mile Island nuclear power plant caused new worries about safety of nuclear energ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o new reactors would be built until the mid-1980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3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arter had successes as well as failures in foreign policy during his administration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arter favored policies that promoted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human right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– the basic rights and freedoms of all peo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Reduced U.S. aid to former allies that committed human rights vio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orked to pressure South African government into ending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apartheid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, a system of laws requiring racial segreg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alled for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sanctions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, or economic penalties, to encourage re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Latin America and the Soviet Un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200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olicy in Latin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1977 Carter signed treaties that would transfer control of Panama Canal to Panama by the year 200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lations with the Soviet Un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Détente broke down when Carter criticized the Soviet Union for committing human rights abu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en the Soviets invaded Afghanistan in 1979, Carter broke off arms talks and refused to allow athletes to participate in 1980 Summer Olympics in Mosc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Middle East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3810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arter worked to ease tensions in the Middle Eas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1978, he helped Egypt and Israel reach a peace agreement in the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Camp David Accords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9, rebels overthrew the shah, or king, of Iran and established an Islamic fundamentalist dictatorsh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 November 4, 1979, a group of Iranian students attacked the U.S. embassy in Tehran, the capital of Iran, and seized about 90 host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Iran hostage crisis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lasted for more than a y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fter a failed rescue attempt in 1980, many Americans lost confidence in Carter’s leadershi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Reagan Presidenc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295280"/>
            <a:ext cx="807696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Big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Reagan enacted conservative policies at home and took a strong anti-Communist stance in the Cold W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in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Reagan based his policies on conservative id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agan took a tough stand against communism in his foreign poli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1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President Reagan based his policies on conservative ideas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26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Republican candidate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Ronald Reagan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won an easy victory over President Carter in the 1980 ele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Asked voters, “Are you better off than when you were four years ago?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On the day of his inauguration, January 20, 1981, Iran finally released the American hostages after 444 days of captiv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Reagan’s approach to government based on conservative ide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Wanted to cut tax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Promised to scale back the size of gover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Encouraged expansion in key industries by reducing government regu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Appointed conservative justices to the Supreme Court, including Sandra Day O’Connor, the first woman to serve as a Supreme Court just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ganomics”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agan’s economic policies were based on a theory called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supply-side economic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alled for sharp tax cuts, with goal of increasing amount of money people and businesses have to inv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vestment would lead to economic growth and creation of new jo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Over time, increased economic activity would produce increased tax revenues for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ecame known as “Reaganomics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pending on defense increa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ew spending outpaced the new tax revenu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Resulted in a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deficit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– the amount by which a government’s spending exceeds its revenu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Nixon’s Presidency and Watergat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219320"/>
            <a:ext cx="8076960" cy="4495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Big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ichard Nixon’s policies helped ease Cold War tensions before the Watergate scandal brought down his presid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in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mericans faced domestic challenges, including an energy and economic cr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’s foreign policy led to improved relations with Communist pow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Watergate scandal forced Nixon to r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rald Ford became president upon Nixon’s resignation and faced many challe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lection of 1984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esident Reagan ran for reelection in 1984 against Democratic candidate Walter Monda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ondale chose Geraldine Ferraro as his running mate, the first woman to run for vice president on a major tic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agan won a landslide victory with 59 percent of the popular vo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Economy was boom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600200"/>
            <a:ext cx="3794040" cy="4343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Central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agan supported anti-Communist governments in Central America and sent aid to them as they fought civil w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Congress passed Boland Amendment in 1984, banning U.S. aid to Contras, rebels in Nicaragu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Iran-Contra affair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 broke when it was exposed that some U.S. officials had continued to send aid to the Contras via illegal sale of arms to Ir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80769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2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gan took a hard stand against communism in his foreign policy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600200"/>
            <a:ext cx="3794040" cy="4343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The Soviet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agan took a tough stand against the Soviet Union by halting arms negotiations and expanding U.S. milit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When </a:t>
            </a: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Mikhail Gorbachev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 became the new Soviet leader, he began a process of economic and political reforms called </a:t>
            </a:r>
            <a:r>
              <a:rPr b="0" i="1" lang="en-US" sz="1600" spc="-1" strike="noStrike">
                <a:solidFill>
                  <a:srgbClr val="ffff99"/>
                </a:solidFill>
                <a:latin typeface="Verdana"/>
              </a:rPr>
              <a:t>perestroika</a:t>
            </a:r>
            <a:r>
              <a:rPr b="1" i="1" lang="en-US" sz="16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agan saw Gorbachev’s desire for change and signed the Intermediate-Range Nuclear Forces Treaty, eliminating all medium-range nuclear weapons in Euro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34520" y="36576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534520" y="297180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096040" cy="511488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096040" cy="2886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33404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33400" y="552600"/>
            <a:ext cx="565812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19120" y="552600"/>
            <a:ext cx="627696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096040" cy="4057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41996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6953400" cy="3981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1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Americans faced domestic challenges, including an energy and economic crisis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President Nixon promised to work on behalf of Americans who supported the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alled them the “Silent Majority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riticized student protest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Did not believe Americans should leave Vietnam quick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ew Federalism was Nixon’s new plan for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Limit power of federal gover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Reflected Nixon’s conservatism, or a desire to limit the involvement of government in citizens’ liv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Promised to reduce welfare spending and restore law and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Opposed new civil rights legis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70080" y="4556160"/>
            <a:ext cx="230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ick window above to start play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conomic Troub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343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merica was experiencing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stagflation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– the economic condition of combined stagnant growth and high inf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Rising prices reduced purchasing power of the U.S. dollar by more than 30 perc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Rising oil costs contributed to inf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United States imported almost one-third of its oil from Middle Eastern countries that belonged to the </a:t>
            </a:r>
            <a:r>
              <a:rPr b="1" lang="en-US" sz="1600" spc="-1" strike="noStrike">
                <a:solidFill>
                  <a:srgbClr val="003300"/>
                </a:solidFill>
                <a:latin typeface="Verdana"/>
              </a:rPr>
              <a:t>Organization of Petroleum Exporting Countries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, or OPE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OPEC worked to control production and keep oil prices high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When the United States helped Israel in the Yom Kippur War, OPEC declared an embargo, or ban, on oil sales to the United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Oil and gas prices soar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Energy crises worsened an already weak econo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2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Nixon’s foreign policy led to improved relations with Communist powers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200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ixon took a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realpolitik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approach to foreign poli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oreign policy decisions would be based on practical American interests, not on moral or political idea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Helped bring an end to Vietnam W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pproach was controversi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The United States backed harsh military governments in Latin America because they were friendly to the United Sta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ixon worked to widen the split between Soviet Union and China and also to improve U.S. relations with both Communist pow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oviet Union and China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705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1972 Nixon visited Chin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Met Chinese leader Mao Zedo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Improved U.S.-China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429000"/>
            <a:ext cx="770760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May 1972 Nixon flew to Moscow and participated in the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Strategic Arms Limitation Talks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(SALT) with Soviet leader Leonid Brezhne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Talks led to a treaty limiting each country’s nuclear weap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Opened a period of </a:t>
            </a:r>
            <a:r>
              <a:rPr b="1" lang="en-US" sz="1600" spc="-1" strike="noStrike">
                <a:solidFill>
                  <a:srgbClr val="003300"/>
                </a:solidFill>
                <a:latin typeface="Verdana"/>
              </a:rPr>
              <a:t>détente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, or less hostile relations, between the United States and the Soviet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oviets began buying grain from American farm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048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oviet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371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458200" y="2133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458200" y="4572000"/>
            <a:ext cx="16020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3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tergate scandal forced Nixon to resign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200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On June 17, 1972, five men were arrested while breaking into the Democratic National Committee’s offices at the Watergate Hotel in Washington, D.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Burglars carried camera and recording equi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Police discovered link between burglars and Nixon administr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Nixon denied involvement in the break-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Went on to landslide victory in the 1972 el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break-in then exploded into a massive political scandal that became known as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Watergate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Invest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porters Bob Woodward and Carl Bernstein investigated, found a secret contact, and learned of illegal activities by Nixon administration offici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Senate committee also investigated and learned that Nixon made recordings of Oval Office conver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Nixon was compelled to turn over the tapes after a ruling by the Supreme Cou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cordings proved Nixon had directed the Watergate cover-up and lied about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39200"/>
            <a:ext cx="80769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Watergate Scandal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371600"/>
            <a:ext cx="35830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Verdana"/>
              </a:rPr>
              <a:t>Nixon’s Resig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House Judiciary Committee recommended impeachment and began the process on July 27, 197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On August 8, 1974, Nixon appeared on national television and announced resig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Gerald Ford was sworn in as president on August 9, 197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Many Americans lost faith in government offici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1880" y="38862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4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rald Ford became president upon Nixon’s resignation and faced many challenges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581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Vice President Gerald Ford became president when Nixon resign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irst modern president to hold the office without being elected to 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Lost some public support when he granted Nixon a </a:t>
            </a:r>
            <a:r>
              <a:rPr b="1" lang="en-US" sz="1600" spc="-1" strike="noStrike">
                <a:solidFill>
                  <a:srgbClr val="003300"/>
                </a:solidFill>
                <a:latin typeface="Verdana"/>
              </a:rPr>
              <a:t>pardon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, or freedom from punish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ord began a campaign called Whip Inflation Now (WI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Encouraged people to save money and businesses to hold down wages and pr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Met with resistance in Cong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1975, Ford and Congress began to compromise on WIN, but inflation and unemployment remained hig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stevenh</cp:lastModifiedBy>
  <cp:lastPrinted>2005-02-01T16:21:45Z</cp:lastPrinted>
  <dcterms:modified xsi:type="dcterms:W3CDTF">2005-12-09T19:59:32Z</dcterms:modified>
  <cp:revision>52</cp:revision>
  <dc:subject/>
  <dc:title>PowerPoint Presentation</dc:title>
</cp:coreProperties>
</file>